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20116800" cy="155448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FD8534-45FD-4C8A-B976-17B5F7B78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5840" y="619920"/>
            <a:ext cx="181047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5840" y="3637440"/>
            <a:ext cx="1810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05840" y="8346600"/>
            <a:ext cx="1810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05840" y="619920"/>
            <a:ext cx="181047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05840" y="3637440"/>
            <a:ext cx="883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282680" y="3637440"/>
            <a:ext cx="883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05840" y="8346600"/>
            <a:ext cx="883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10282680" y="8346600"/>
            <a:ext cx="883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5840" y="619920"/>
            <a:ext cx="181047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5840" y="3637440"/>
            <a:ext cx="582948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27280" y="3637440"/>
            <a:ext cx="582948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48360" y="3637440"/>
            <a:ext cx="582948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05840" y="8346600"/>
            <a:ext cx="582948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7127280" y="8346600"/>
            <a:ext cx="582948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3248360" y="8346600"/>
            <a:ext cx="582948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05840" y="619920"/>
            <a:ext cx="181047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05840" y="3637440"/>
            <a:ext cx="18104760" cy="901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05840" y="619920"/>
            <a:ext cx="181047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05840" y="3637440"/>
            <a:ext cx="18104760" cy="901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5840" y="619920"/>
            <a:ext cx="181047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05840" y="3637440"/>
            <a:ext cx="8834760" cy="901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10282680" y="3637440"/>
            <a:ext cx="8834760" cy="901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5840" y="619920"/>
            <a:ext cx="181047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05840" y="619920"/>
            <a:ext cx="18104760" cy="120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5840" y="619920"/>
            <a:ext cx="181047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05840" y="3637440"/>
            <a:ext cx="883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0282680" y="3637440"/>
            <a:ext cx="8834760" cy="901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05840" y="8346600"/>
            <a:ext cx="883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5840" y="619920"/>
            <a:ext cx="181047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5840" y="3637440"/>
            <a:ext cx="8834760" cy="901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0282680" y="3637440"/>
            <a:ext cx="883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82680" y="8346600"/>
            <a:ext cx="883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5840" y="619920"/>
            <a:ext cx="181047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05840" y="3637440"/>
            <a:ext cx="883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0282680" y="3637440"/>
            <a:ext cx="883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05840" y="8346600"/>
            <a:ext cx="1810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5840" y="619920"/>
            <a:ext cx="181047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5840" y="3637440"/>
            <a:ext cx="18104760" cy="901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08040" y="14163840"/>
            <a:ext cx="4191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73840" y="14163840"/>
            <a:ext cx="6369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08040" y="0"/>
            <a:ext cx="1710072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biology Tec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520" y="2603520"/>
            <a:ext cx="20086560" cy="113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08040" y="14163840"/>
            <a:ext cx="4191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3840" y="14163840"/>
            <a:ext cx="6369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08040" y="0"/>
            <a:ext cx="1710072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social Engineer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1920" y="1149480"/>
            <a:ext cx="19465920" cy="142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08040" y="14163840"/>
            <a:ext cx="4191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73840" y="14163840"/>
            <a:ext cx="6369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08040" y="0"/>
            <a:ext cx="1710072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77920" y="1047600"/>
            <a:ext cx="15970320" cy="143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08040" y="14163840"/>
            <a:ext cx="4191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3840" y="14163840"/>
            <a:ext cx="6369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08040" y="0"/>
            <a:ext cx="1710072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antry and Mechanized Units / Applied Tec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9120" y="1114560"/>
            <a:ext cx="19091160" cy="139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08040" y="14163840"/>
            <a:ext cx="4191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73840" y="14163840"/>
            <a:ext cx="6369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08040" y="0"/>
            <a:ext cx="1710072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al and Air Units / Applied Tec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78040" y="790560"/>
            <a:ext cx="18373680" cy="145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08040" y="14163840"/>
            <a:ext cx="4191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3840" y="14163840"/>
            <a:ext cx="6369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08040" y="0"/>
            <a:ext cx="1710072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ce Units / Applied Tec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0" y="1158840"/>
            <a:ext cx="14470200" cy="142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tt Caspermeyer</dc:creator>
  <dc:description/>
  <dc:language>en-US</dc:language>
  <cp:lastModifiedBy>Matt Caspermeyer</cp:lastModifiedBy>
  <cp:revision>0</cp:revision>
  <dc:subject/>
  <dc:title>Microbiology Tech</dc:title>
</cp:coreProperties>
</file>