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20116800" cy="155448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0A10F6-6F51-40CB-829B-D871FA122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1810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05840" y="8346600"/>
            <a:ext cx="1810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05840" y="834660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0282680" y="834660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27280" y="363744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48360" y="363744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05840" y="834660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7127280" y="834660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3248360" y="8346600"/>
            <a:ext cx="582948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05840" y="3637440"/>
            <a:ext cx="1810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1810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05840" y="619920"/>
            <a:ext cx="18104760" cy="120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05840" y="834660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82680" y="834660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584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282680" y="3637440"/>
            <a:ext cx="883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5840" y="8346600"/>
            <a:ext cx="18104760" cy="43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5840" y="619920"/>
            <a:ext cx="1810476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5840" y="3637440"/>
            <a:ext cx="18104760" cy="90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biology T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592360"/>
            <a:ext cx="20129400" cy="113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social Engineer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133640"/>
            <a:ext cx="19519920" cy="143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44880" y="969840"/>
            <a:ext cx="15990840" cy="145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ry and Mechanized Units / Applied T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" y="1231920"/>
            <a:ext cx="20121480" cy="141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al and Air Units / Applied T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8000" y="536400"/>
            <a:ext cx="19911960" cy="150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08040" y="14163840"/>
            <a:ext cx="4191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3840" y="14163840"/>
            <a:ext cx="63691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08040" y="0"/>
            <a:ext cx="17100720" cy="10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Units / Applied Te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3200" y="976320"/>
            <a:ext cx="14490720" cy="144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t Caspermeyer</dc:creator>
  <dc:description/>
  <dc:language>en-US</dc:language>
  <cp:lastModifiedBy>Matt Caspermeyer</cp:lastModifiedBy>
  <cp:revision>0</cp:revision>
  <dc:subject/>
  <dc:title>Microbiology Tech</dc:title>
</cp:coreProperties>
</file>